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84138"/>
        <c:axId val="26388173"/>
      </c:barChart>
      <c:catAx>
        <c:axId val="52484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88173"/>
        <c:crosses val="autoZero"/>
        <c:auto val="1"/>
        <c:lblAlgn val="ctr"/>
        <c:lblOffset val="100"/>
        <c:noMultiLvlLbl val="0"/>
      </c:catAx>
      <c:valAx>
        <c:axId val="26388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84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70B-AEEB-4A57-AE2E-A5F59AB2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DB7-904A-40C6-9346-143269D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E48-F9B1-4FF9-8D4C-B7BDE478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17EB-82DF-451E-9029-A43B276A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FD7-F8F9-4423-BAB4-CC8C4DC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2F64-30BC-433A-80DB-DF04C65C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671-AB3C-4B84-895E-0E8D1058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0AA-534D-466E-A2BB-6C19DEC6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960-4853-4EE3-BE1A-6A858C5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4F6-3200-4368-921B-EA7F11F3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92AC-4DC9-4439-B37B-5F077A4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D55-0529-4122-B71A-CD5E0F5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F40D9-2664-432B-A3F7-E3A0535246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