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56234"/>
        <c:axId val="35856263"/>
      </c:barChart>
      <c:catAx>
        <c:axId val="80456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6263"/>
        <c:crosses val="autoZero"/>
        <c:auto val="1"/>
        <c:lblAlgn val="ctr"/>
        <c:lblOffset val="100"/>
        <c:noMultiLvlLbl val="0"/>
      </c:catAx>
      <c:valAx>
        <c:axId val="35856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6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DBB-C498-494D-98AB-55EBABDE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A2D-B72D-4784-BEEB-F9852CB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E6C-B655-4F27-86C7-74B03CC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C20-1A16-4767-BDB0-EF81C67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960-340A-456D-87E5-03542454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61-E1FD-48CA-BCE3-008E162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E43-3ADA-4945-BE4F-DAF0234C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91A-BF07-43A9-A773-C9CE4B2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D26-D4D6-4500-9CD7-F35C15A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69B-27C3-48EE-AFF6-C3F0FA0D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E4D-5A59-4875-9F3A-571E509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EA9-DBCB-4AE0-AA40-46A760A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9CC3F-68C6-479F-845D-204F6510C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