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49253"/>
        <c:axId val="58791738"/>
      </c:barChart>
      <c:catAx>
        <c:axId val="54249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91738"/>
        <c:crosses val="autoZero"/>
        <c:auto val="1"/>
        <c:lblAlgn val="ctr"/>
        <c:lblOffset val="100"/>
        <c:noMultiLvlLbl val="0"/>
      </c:catAx>
      <c:valAx>
        <c:axId val="58791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49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647-D46F-4020-9693-2D059551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117-B5C3-4049-B3F5-3D74658F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F21-EFA4-431E-94B0-841A7020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3D3-DB54-41C9-9C58-AC9AFDCC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45F-3419-4CB5-920C-83418E6D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AD2-EEDD-4659-9460-F5EB8E4E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EBF-8FF5-4C98-BAB0-F2491FC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DB1-8325-4465-A96A-0D4FC779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2DE-E5D5-4102-80FC-A8C9001A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738-4471-42B1-BD4B-E82FD02F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8A7-7A49-46F2-BA02-030C8BBB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8C8-6431-4BE2-A309-0DAB27BA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37376-4331-454D-947E-C964E69DBB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